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14A-1DC2-4B9E-937D-425EFC5B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C21-8CEF-4295-BAAE-8F4E98F1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40C-247C-4403-ABCD-88BC4A33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1E3-37D4-4803-9FC9-76714521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F61-871B-4C83-99F1-7C4E4260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D6E-2D8B-4756-B837-6E3ADCC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BB7-FF1B-4DF4-8EEB-3FE8EDDC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24-E695-4914-B35D-022FF54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223-7A18-40F7-9D5F-B6404641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0E7-6D53-4886-9C1B-1B3F073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A2D-72B4-4AB4-B19F-E8B428E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D70-4592-4566-A324-9F1FD4D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23A4-244E-476C-AA78-2590D9A5D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ritannic Bold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ritannic Bold"/>
              </a:rPr>
              <a:t>Kaylee Car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KC india.jpg"/>
          <p:cNvPicPr/>
          <p:nvPr/>
        </p:nvPicPr>
        <p:blipFill>
          <a:blip r:embed="rId2"/>
          <a:stretch/>
        </p:blipFill>
        <p:spPr>
          <a:xfrm rot="21433200">
            <a:off x="2062080" y="2209320"/>
            <a:ext cx="518184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Lucida Console"/>
              </a:rPr>
              <a:t>Dzong</a:t>
            </a:r>
            <a:r>
              <a:rPr b="0" lang="en-US" sz="4400" spc="-1" strike="noStrike">
                <a:solidFill>
                  <a:srgbClr val="ff0066"/>
                </a:solidFill>
                <a:latin typeface="Lucida Conso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05bb"/>
                </a:solidFill>
                <a:latin typeface="Goudy Stout"/>
              </a:rPr>
              <a:t>A Buddhist center of prayer and stu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KC dzong india.jpg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Bauhaus 93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erlin Sans FB Demi"/>
              </a:rPr>
              <a:t>A large landmass that is part of a continent but distinct </a:t>
            </a:r>
            <a:r>
              <a:rPr b="0" lang="en-US" sz="3600" spc="-1" strike="noStrike">
                <a:solidFill>
                  <a:srgbClr val="0070c0"/>
                </a:solidFill>
                <a:latin typeface="Berlin Sans FB Demi"/>
              </a:rPr>
              <a:t>from 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592360" y="1438200"/>
            <a:ext cx="4129200" cy="405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 Black"/>
              </a:rPr>
              <a:t>Monso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Elephant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KC monsoon india.jpg"/>
          <p:cNvPicPr/>
          <p:nvPr/>
        </p:nvPicPr>
        <p:blipFill>
          <a:blip r:embed="rId1"/>
          <a:stretch/>
        </p:blipFill>
        <p:spPr>
          <a:xfrm>
            <a:off x="1905120" y="19810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Ju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pperplate Gothic Bold"/>
              </a:rPr>
              <a:t>A plant fiber used for making rop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KC jute india.jpg"/>
          <p:cNvPicPr/>
          <p:nvPr/>
        </p:nvPicPr>
        <p:blipFill>
          <a:blip r:embed="rId1"/>
          <a:stretch/>
        </p:blipFill>
        <p:spPr>
          <a:xfrm rot="198000">
            <a:off x="2819160" y="1905120"/>
            <a:ext cx="3200400" cy="2361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11f31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f311"/>
                </a:solidFill>
                <a:latin typeface="Verdana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t0.gstatic.com/images?q=tbn:ANd9GcTqAWg5_cDLzv-i1WoLMKYkkDLYsjTvYYc7CC9NKq6POFKONulgng"/>
          <p:cNvPicPr/>
          <p:nvPr/>
        </p:nvPicPr>
        <p:blipFill>
          <a:blip r:embed="rId1"/>
          <a:stretch/>
        </p:blipFill>
        <p:spPr>
          <a:xfrm>
            <a:off x="2209680" y="2438280"/>
            <a:ext cx="449604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Rounded MT Bold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Eras Bold ITC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nataliepeart.files.wordpress.com/2011/10/caste_system-oo4t9n.jpg"/>
          <p:cNvPicPr/>
          <p:nvPr/>
        </p:nvPicPr>
        <p:blipFill>
          <a:blip r:embed="rId1"/>
          <a:stretch/>
        </p:blipFill>
        <p:spPr>
          <a:xfrm>
            <a:off x="1981080" y="182880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54061"/>
                </a:solidFill>
                <a:latin typeface="Franklin Gothic Heavy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Impact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ttp://t0.gstatic.com/images?q=tbn:ANd9GcTfaKmdH2kFWDU44JSV55lk4g6CANqWR26oUU57SfBD2JStf9jIxyN8FNmb4A"/>
          <p:cNvPicPr/>
          <p:nvPr/>
        </p:nvPicPr>
        <p:blipFill>
          <a:blip r:embed="rId1"/>
          <a:stretch/>
        </p:blipFill>
        <p:spPr>
          <a:xfrm rot="21417000">
            <a:off x="2286000" y="16765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Copperplate Gothic Bold"/>
              </a:rPr>
              <a:t>Cycl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Franklin Gothic Heavy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KC cyclone india.jpg"/>
          <p:cNvPicPr/>
          <p:nvPr/>
        </p:nvPicPr>
        <p:blipFill>
          <a:blip r:embed="rId1"/>
          <a:stretch/>
        </p:blipFill>
        <p:spPr>
          <a:xfrm rot="180000">
            <a:off x="2431800" y="1919160"/>
            <a:ext cx="3516120" cy="27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 Black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Demi ITC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KC pesticides.jpg"/>
          <p:cNvPicPr/>
          <p:nvPr/>
        </p:nvPicPr>
        <p:blipFill>
          <a:blip r:embed="rId2"/>
          <a:stretch/>
        </p:blipFill>
        <p:spPr>
          <a:xfrm>
            <a:off x="3048120" y="2209680"/>
            <a:ext cx="2361960" cy="1981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9:53Z</dcterms:modified>
  <cp:revision>17</cp:revision>
  <dc:subject/>
  <dc:title>Chapter 5 – India Vocabulary</dc:title>
</cp:coreProperties>
</file>